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588A-C656-42D3-A22C-07187710861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2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ABAC2-A7AD-4143-8C32-AEF8D5D6B3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5E4B-92AA-4956-98CD-99EA7CF8330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125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795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9720" y="247320"/>
            <a:ext cx="822960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95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9720" y="2448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125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95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42591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架构交流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5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8667720" cy="35622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400440"/>
            <a:ext cx="2743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黑体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EAS</a:t>
            </a:r>
            <a:r>
              <a:rPr b="0" lang="zh-CN" sz="1400" spc="-1" strike="noStrike">
                <a:solidFill>
                  <a:srgbClr val="808080"/>
                </a:solidFill>
                <a:latin typeface="黑体"/>
                <a:ea typeface="黑体"/>
              </a:rPr>
              <a:t>技术特性 </a:t>
            </a:r>
            <a:r>
              <a:rPr b="0" lang="en-US" sz="1400" spc="-1" strike="noStrike">
                <a:solidFill>
                  <a:srgbClr val="808080"/>
                </a:solidFill>
                <a:latin typeface="黑体"/>
                <a:ea typeface="黑体"/>
              </a:rPr>
              <a:t>2006 09 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2"/>
          <a:stretch/>
        </p:blipFill>
        <p:spPr>
          <a:xfrm>
            <a:off x="250920" y="246240"/>
            <a:ext cx="8638920" cy="5904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服务不仅返回一个值，更应该有异常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最好有公共的异常类型，以通用的方式处理异常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不同的节点、路由器、网关中被识别处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9720" y="247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rror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ndl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42960" y="1428840"/>
          <a:ext cx="7858080" cy="4357440"/>
        </p:xfrm>
        <a:graphic>
          <a:graphicData uri="http://schemas.openxmlformats.org/drawingml/2006/table">
            <a:tbl>
              <a:tblPr/>
              <a:tblGrid>
                <a:gridCol w="1590480"/>
                <a:gridCol w="2462400"/>
                <a:gridCol w="3805200"/>
              </a:tblGrid>
              <a:tr h="4143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属性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数据类型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黑体"/>
                          <a:ea typeface="楷体_GB2312"/>
                        </a:rPr>
                        <a:t>描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mes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一个（默认的）错误消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od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使通过编程达到识别并处理该类型错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errorCla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类型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fatal,technical,logical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Date/tim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错误发生的时间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ourc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发现错误的系统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ntex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某些上下文环境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param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Key/value list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额外的特定错误信息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correlationID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tring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关联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D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（指明流程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...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innerExceptio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Service exception typ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宋体"/>
                          <a:ea typeface="楷体_GB2312"/>
                        </a:rPr>
                        <a:t>引发这个异常的异常（使能处理被包装的，或被映射到其他异常的异常）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6T07:49:55Z</dcterms:created>
  <dc:creator>RaymondXiu</dc:creator>
  <dc:description/>
  <dc:language>en-US</dc:language>
  <cp:lastModifiedBy>peter_wang</cp:lastModifiedBy>
  <dcterms:modified xsi:type="dcterms:W3CDTF">2011-07-23T09:20:56Z</dcterms:modified>
  <cp:revision>962</cp:revision>
  <dc:subject/>
  <dc:title>金蝶集成平台</dc:title>
</cp:coreProperties>
</file>