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B4E5-9022-430C-94B8-AEBCD7680B9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31BA-0C51-457A-A0C2-C03453B1D3A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C104-9979-4A12-9109-F7A640EFF5C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4259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架构交流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67720" cy="3562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685800" y="640044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特性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服务不仅返回一个值，更应该有异常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好有公共的异常类型，以通用的方式处理异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不同的节点、路由器、网关中被识别处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42960" y="1428840"/>
          <a:ext cx="7858080" cy="4357440"/>
        </p:xfrm>
        <a:graphic>
          <a:graphicData uri="http://schemas.openxmlformats.org/drawingml/2006/table">
            <a:tbl>
              <a:tblPr/>
              <a:tblGrid>
                <a:gridCol w="1590480"/>
                <a:gridCol w="2462400"/>
                <a:gridCol w="3805200"/>
              </a:tblGrid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属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数据类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描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messag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一个（默认的）错误消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o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使通过编程达到识别并处理该类型错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la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类型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fatal,technical,logical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Date/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发生的时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our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发现错误的系统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ntex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某些上下文环境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para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Key/value li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额外的特定错误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rrelationI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关联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D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（指明流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nnerExcep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ervice exception ty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引发这个异常的异常（使能处理被包装的，或被映射到其他异常的异常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7:49:55Z</dcterms:created>
  <dc:creator>RaymondXiu</dc:creator>
  <dc:description/>
  <dc:language>en-US</dc:language>
  <cp:lastModifiedBy>peter_wang</cp:lastModifiedBy>
  <dcterms:modified xsi:type="dcterms:W3CDTF">2011-07-23T09:20:56Z</dcterms:modified>
  <cp:revision>962</cp:revision>
  <dc:subject/>
  <dc:title>金蝶集成平台</dc:title>
</cp:coreProperties>
</file>