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9D643-1952-4B0F-B238-B09A7666537C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  <p:sp>
        <p:nvSpPr>
          <p:cNvPr id="132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4EE30-B9E6-491D-9EBD-57D4EEF1BEE8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  <p:sp>
        <p:nvSpPr>
          <p:cNvPr id="135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785F3-9E48-4806-A049-1FEB5FB492B0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69720" y="2448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795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69720" y="2448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795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795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69720" y="2448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125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125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795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795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795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69720" y="2448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125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69720" y="2448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69720" y="2448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69720" y="2448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69720" y="247320"/>
            <a:ext cx="8229600" cy="26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69720" y="2448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795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69720" y="2448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125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69720" y="2448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795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69720" y="2448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795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69720" y="2448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795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69720" y="2448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795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795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69720" y="2448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125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125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795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795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795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69720" y="2448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125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69720" y="2448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69720" y="2448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69720" y="2448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9720" y="2448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369720" y="247320"/>
            <a:ext cx="8229600" cy="26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69720" y="2448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795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69720" y="2448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795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69720" y="2448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795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69720" y="2448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795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69720" y="2448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795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795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69720" y="2448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125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125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795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795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795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9720" y="2448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69720" y="2448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69720" y="247320"/>
            <a:ext cx="8229600" cy="26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9720" y="2448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795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69720" y="2448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795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69720" y="2448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795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tretch/>
        </p:blipFill>
        <p:spPr>
          <a:xfrm>
            <a:off x="250920" y="246240"/>
            <a:ext cx="8638920" cy="5904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57200" y="1125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456840" y="6381720"/>
            <a:ext cx="425916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黑体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黑体"/>
                <a:ea typeface="黑体"/>
              </a:rPr>
              <a:t>EAS</a:t>
            </a:r>
            <a:r>
              <a:rPr b="0" lang="zh-CN" sz="1400" spc="-1" strike="noStrike">
                <a:solidFill>
                  <a:srgbClr val="808080"/>
                </a:solidFill>
                <a:latin typeface="黑体"/>
                <a:ea typeface="黑体"/>
              </a:rPr>
              <a:t>技术架构交流 </a:t>
            </a:r>
            <a:r>
              <a:rPr b="0" lang="en-US" sz="1400" spc="-1" strike="noStrike">
                <a:solidFill>
                  <a:srgbClr val="808080"/>
                </a:solidFill>
                <a:latin typeface="黑体"/>
                <a:ea typeface="黑体"/>
              </a:rPr>
              <a:t>2006 09 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369720" y="2473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5" descr=""/>
          <p:cNvPicPr/>
          <p:nvPr/>
        </p:nvPicPr>
        <p:blipFill>
          <a:blip r:embed="rId2"/>
          <a:stretch/>
        </p:blipFill>
        <p:spPr>
          <a:xfrm>
            <a:off x="250920" y="333360"/>
            <a:ext cx="8667720" cy="356220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457200" y="1125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369720" y="2473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2"/>
          </p:nvPr>
        </p:nvSpPr>
        <p:spPr>
          <a:xfrm>
            <a:off x="685800" y="6400440"/>
            <a:ext cx="2743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黑体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黑体"/>
                <a:ea typeface="黑体"/>
              </a:rPr>
              <a:t>EAS</a:t>
            </a:r>
            <a:r>
              <a:rPr b="0" lang="zh-CN" sz="1400" spc="-1" strike="noStrike">
                <a:solidFill>
                  <a:srgbClr val="808080"/>
                </a:solidFill>
                <a:latin typeface="黑体"/>
                <a:ea typeface="黑体"/>
              </a:rPr>
              <a:t>技术特性 </a:t>
            </a:r>
            <a:r>
              <a:rPr b="0" lang="en-US" sz="1400" spc="-1" strike="noStrike">
                <a:solidFill>
                  <a:srgbClr val="808080"/>
                </a:solidFill>
                <a:latin typeface="黑体"/>
                <a:ea typeface="黑体"/>
              </a:rPr>
              <a:t>2006 09 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"/>
          <p:cNvPicPr/>
          <p:nvPr/>
        </p:nvPicPr>
        <p:blipFill>
          <a:blip r:embed="rId2"/>
          <a:stretch/>
        </p:blipFill>
        <p:spPr>
          <a:xfrm>
            <a:off x="250920" y="246240"/>
            <a:ext cx="8638920" cy="5904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body"/>
          </p:nvPr>
        </p:nvSpPr>
        <p:spPr>
          <a:xfrm>
            <a:off x="457200" y="1125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369720" y="2473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69720" y="2473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rror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nd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125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服务不仅返回一个值，更应该有异常类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最好有公共的异常类型，以通用的方式处理异常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在不同的节点、路由器、网关中被识别处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69720" y="2473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rror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nd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642960" y="1428840"/>
          <a:ext cx="7858080" cy="4357440"/>
        </p:xfrm>
        <a:graphic>
          <a:graphicData uri="http://schemas.openxmlformats.org/drawingml/2006/table">
            <a:tbl>
              <a:tblPr/>
              <a:tblGrid>
                <a:gridCol w="1590480"/>
                <a:gridCol w="2462400"/>
                <a:gridCol w="3805200"/>
              </a:tblGrid>
              <a:tr h="4143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黑体"/>
                          <a:ea typeface="楷体_GB2312"/>
                        </a:rPr>
                        <a:t>属性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黑体"/>
                          <a:ea typeface="楷体_GB2312"/>
                        </a:rPr>
                        <a:t>数据类型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黑体"/>
                          <a:ea typeface="楷体_GB2312"/>
                        </a:rPr>
                        <a:t>描述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4014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message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String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一个（默认的）错误消息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03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errorCode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String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使通过编程达到识别并处理该类型错误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4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errorClass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String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错误类型（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fatal,technical,logical...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）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03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time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Date/time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错误发生的时间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4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source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String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发现错误的系统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context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String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某些上下文环境信息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99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params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Key/value list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额外的特定错误信息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correlationID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String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关联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ID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（指明流程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...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）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47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innerException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Service exception type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引发这个异常的异常（使能处理被包装的，或被映射到其他异常的异常）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16T07:49:55Z</dcterms:created>
  <dc:creator>RaymondXiu</dc:creator>
  <dc:description/>
  <dc:language>en-US</dc:language>
  <cp:lastModifiedBy>peter_wang</cp:lastModifiedBy>
  <dcterms:modified xsi:type="dcterms:W3CDTF">2011-07-23T09:20:56Z</dcterms:modified>
  <cp:revision>962</cp:revision>
  <dc:subject/>
  <dc:title>金蝶集成平台</dc:title>
</cp:coreProperties>
</file>